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185-B7BB-470E-98D6-DC1B22AB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6D2-5C11-4153-994F-43535945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7D5-492F-48A3-9330-5301191A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E27-E838-49F1-BDFC-EBE77591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16C-9ABC-4A42-91B7-19A682F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E52-DFDA-46FB-AE14-E1AFC06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7F4-73C1-4DA2-9CD8-604417E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160-53C4-450F-B86A-101BD25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21A-30F0-4945-BA2B-165400D5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01C-91E4-40E3-8AFC-97B60C3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B73-02E8-4300-9988-91FFA38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BF7-49A9-4D27-AC9F-C879B3B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9C8-E8A2-4A8B-A5F8-313C3C707F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en invaders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by: 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: Ben and Mich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pZap speedy crypton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speeding trough cryptonon. collecting pieces of technology*.BBooom retreat were getting bombed. We've found the special ship* were turning on the exhaust pipes and engines*.were getting out of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mages"/>
          <p:cNvPicPr/>
          <p:nvPr/>
        </p:nvPicPr>
        <p:blipFill>
          <a:blip r:embed="rId1"/>
          <a:stretch/>
        </p:blipFill>
        <p:spPr>
          <a:xfrm>
            <a:off x="4716360" y="1197000"/>
            <a:ext cx="4103640" cy="23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res"/>
          <p:cNvPicPr/>
          <p:nvPr/>
        </p:nvPicPr>
        <p:blipFill>
          <a:blip r:embed="rId2"/>
          <a:stretch/>
        </p:blipFill>
        <p:spPr>
          <a:xfrm>
            <a:off x="4572000" y="3789360"/>
            <a:ext cx="4176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ything al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 can see the planet green and big. We see ufo’s everywhere*.prepare the battle gear* Michael put up the phasor guns and get the reflector shield up were going in *.bang boom bong ping pong pang p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magesCAF0BN5K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magesCALT9RKU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liens who eat al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* Yellow aliens lurking everywhere on planet zurkon. Everywhere we mean everywhere*. Get out our guns to survive. Alright  I got a shotgun* I machine gun oh yeah oh yeah lets get out of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9" descr="images (1).jpg"/>
          <p:cNvPicPr/>
          <p:nvPr/>
        </p:nvPicPr>
        <p:blipFill>
          <a:blip r:embed="rId1"/>
          <a:stretch/>
        </p:blipFill>
        <p:spPr>
          <a:xfrm>
            <a:off x="4932360" y="1484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10" descr="images.jpg"/>
          <p:cNvPicPr/>
          <p:nvPr/>
        </p:nvPicPr>
        <p:blipFill>
          <a:blip r:embed="rId2"/>
          <a:stretch/>
        </p:blipFill>
        <p:spPr>
          <a:xfrm>
            <a:off x="4932360" y="3933720"/>
            <a:ext cx="31687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uman kind vs. alien cr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*smashing through their alien defence line. Zapping the humans kind as the metal pieces fly everywhere* were making progress on the aliens work defences*.BBooom something explodes in the middle of the battle* the aliens are running away victory to humans *.this very day aliens are re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S2RQXA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agesCA2AL9Y3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2:55:50Z</dcterms:created>
  <dc:creator>Samuel</dc:creator>
  <dc:description/>
  <dc:language>en-US</dc:language>
  <cp:lastModifiedBy>Samuel</cp:lastModifiedBy>
  <dcterms:modified xsi:type="dcterms:W3CDTF">2012-09-20T21:51:34Z</dcterms:modified>
  <cp:revision>12</cp:revision>
  <dc:subject/>
  <dc:title>Alien invaders on the move</dc:title>
</cp:coreProperties>
</file>